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E903-C727-4A37-8ADC-A9A352B183CC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04E0-6981-4F61-BD71-97E873B55E36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7223-F2ED-42B1-B26A-F2A2CF56A83D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8C52-E1CA-441C-8157-59A5E156941D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6C48-5C61-4794-BB11-25F0A69CEF54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FCE8-8612-4A34-8CB6-AD79B15369F1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98A4-0C62-4C7C-89E0-C5E7303DF49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F2B5-BF64-45E2-8E7B-E5F971683E78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5D3B-6C79-4481-A85E-6340BDB2AB74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1091-D6A3-4E85-9B2C-CD4178BB5164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F3B-402E-4A33-8F36-87EDBAB4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186-0CA9-4081-B8B7-75EBEA65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746-B711-4B1E-955F-99E36FF1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19C-26E1-436E-A902-CD712C78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8A25-50B2-4D49-8D5E-7076E766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8EB8-3D2C-490C-8D38-187E8D57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5889-20C1-4D99-AC52-971136AE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A422-1B11-4BC4-8AB1-BC5521AD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CF69-E18F-4ED8-BA19-1F2D87A1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9AC3-7B2B-4CF7-A118-7EB0B6F9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9D4E-5A55-4F00-966E-586AC774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B5B-2A1F-4CAD-9919-E4995DBA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BD72-4070-4D07-A93E-C641F5C1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1A60-E356-46C2-9626-4F32061A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FCB1-DE99-4AE2-80FB-D0DF91C7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4B3D-7F9A-4E03-9205-0ABFBF63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5966-21C0-4D24-BBC6-22C40EC7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5F8-393D-44C2-8F68-4CEB8C88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AFA-F4F9-4397-BE68-B6BA6188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EFE-300E-4D8D-97C3-14563395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D03-3D98-489D-984A-74569771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74E-3348-4673-8A4B-D1EDA487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DBC-2ABD-4A30-A59D-AECFB19C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9121-73DA-4F30-8149-F37B41D1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B368-13A2-4A7E-AF5D-4A18D7B0647B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nstitución Educativa SEK"/>
          <p:cNvPicPr/>
          <p:nvPr/>
        </p:nvPicPr>
        <p:blipFill>
          <a:blip r:embed="rId2"/>
          <a:stretch/>
        </p:blipFill>
        <p:spPr>
          <a:xfrm>
            <a:off x="428760" y="6173640"/>
            <a:ext cx="1714320" cy="68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Presentació oral del Projecte 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D8BB-FCB7-4CE1-8F63-3C7CCEA75FD3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Projecte Pers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e46c0a"/>
                </a:solidFill>
                <a:latin typeface="Calibri"/>
              </a:rPr>
              <a:t>Exposi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Institución Educativa SEK"/>
          <p:cNvPicPr/>
          <p:nvPr/>
        </p:nvPicPr>
        <p:blipFill>
          <a:blip r:embed="rId1"/>
          <a:stretch/>
        </p:blipFill>
        <p:spPr>
          <a:xfrm>
            <a:off x="4714920" y="1214280"/>
            <a:ext cx="3400560" cy="1357560"/>
          </a:xfrm>
          <a:prstGeom prst="rect">
            <a:avLst/>
          </a:prstGeom>
          <a:ln w="0">
            <a:noFill/>
          </a:ln>
        </p:spPr>
      </p:pic>
      <p:pic>
        <p:nvPicPr>
          <p:cNvPr id="93" name="6 Imagen" descr="TriWorldSchool2Colourlarge.jpg"/>
          <p:cNvPicPr/>
          <p:nvPr/>
        </p:nvPicPr>
        <p:blipFill>
          <a:blip r:embed="rId2"/>
          <a:stretch/>
        </p:blipFill>
        <p:spPr>
          <a:xfrm>
            <a:off x="2071800" y="1285920"/>
            <a:ext cx="1143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Í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ratègies de comunicació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ines de su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res aspec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stratègies de comunicació 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gistre lingüí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xpressivita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ges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stura corp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tacte visual amb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tme i enton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 llegir ni mirar contínuament la panta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Organització de la presenta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Desenvolupa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ici: captar l’atenció de l’audi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ticipar les línies bàsiques de la present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creció del tema i object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uen sobre el contingut de l’exposi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Introduc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46c0a"/>
                </a:solidFill>
                <a:latin typeface="Calibri"/>
              </a:rPr>
              <a:t>Desenvolupa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oherent i adequat a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 de portar de forma lògica a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n de sustentar les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) Sobre el contingut del projec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erides a tots els objec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b) Reflexió sobre el proc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àlisi del treball realit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nts forts i punts dèbis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toavaluac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Eines de su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equisit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formal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la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sonalització d’estil i diss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ma predeterminat o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reat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er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ansicions de diapos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serció d’arxius (imatges, sons, altres document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quisits funcionals de la present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forç de la finalitat comunic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 es tracta d’una demostració de virtuosisme tèc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uració entre 7 i 12 minu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evisió de la presentació amb el supervi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iurament de la presentació al supervis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P-0709-F6-Cognom1_Cogno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e46c0a"/>
                </a:solidFill>
                <a:latin typeface="Calibri"/>
              </a:rPr>
              <a:t>Altres aspec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9:05:56Z</dcterms:created>
  <dc:creator>awaar</dc:creator>
  <dc:description/>
  <dc:language>en-US</dc:language>
  <cp:lastModifiedBy>jros</cp:lastModifiedBy>
  <dcterms:modified xsi:type="dcterms:W3CDTF">2009-04-24T13:11:29Z</dcterms:modified>
  <cp:revision>23</cp:revision>
  <dc:subject/>
  <dc:title>QUÈ HA TENIR?</dc:title>
</cp:coreProperties>
</file>