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B865-CEC2-4F86-BBD7-3FA96545CA70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C592-E931-451D-BCA5-E4B67DE3A8B6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B570-88FF-403E-B9D1-FB0FC5820223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AC1D-3A4B-4125-8AD1-DEA0AD59B6B7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653A-FA78-4740-9E67-F2BD56F43381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8DC9-C356-471F-85C5-DBF5847A03F7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5E98-4866-496A-BAEA-387659224AA1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974A-FC14-4817-873B-CE5F19770F99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871F-E5DA-42BB-8858-8018C77D5BDE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004D-FF27-4FE5-B472-54091333D93E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418-CA65-415B-9971-2123B497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4D36-CD63-4164-BE54-7287F0BF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D28-DFCB-4A39-8465-F2BC6F8E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112-3EDE-449C-9D14-9DA4F384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45BB-5CE6-473B-A0B3-A36B21D6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A863-3CB2-47C7-AB15-FDD3AC8D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EAF2-261D-42F2-910D-9054F991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1811-14B3-43FA-8019-59765520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31B3-CD93-4DF4-95C1-6B63DA94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9A20-1B86-4073-AE7F-749D5533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4F85-317D-42C2-8299-74D2E34C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B4F-C21A-4527-A2C8-67A1A6F7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EAA7-825E-4B41-8BBD-423ABEC7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1D3F-E340-4A35-B063-52BB1C69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20DD-AA08-4479-8FE9-1E967E0F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E92E-8880-4923-81B5-87207D7B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27BD-D803-44A7-B6B5-28933C51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39EA-2BA6-4F06-9880-EDC42FA2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E2B1-43F1-46FB-862D-46E09F72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1750-8C2C-4371-8ADF-21E1CE7B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D66-9551-4CE6-BF93-56A1A73A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4546-E0E3-441E-9E40-C06C1FDF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21AB-BC52-41A5-9B75-772C9466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F2C-05CF-4D67-94FC-6B287516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E1ED-8FE6-460F-B44F-1D67C076CA53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nstitución Educativa SEK"/>
          <p:cNvPicPr/>
          <p:nvPr/>
        </p:nvPicPr>
        <p:blipFill>
          <a:blip r:embed="rId2"/>
          <a:stretch/>
        </p:blipFill>
        <p:spPr>
          <a:xfrm>
            <a:off x="428760" y="6173640"/>
            <a:ext cx="1714320" cy="68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Presentació oral del Projecte 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685D-4121-4DE9-BF30-B42963CC2C79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Projecte Pers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e46c0a"/>
                </a:solidFill>
                <a:latin typeface="Calibri"/>
              </a:rPr>
              <a:t>Exposi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Institución Educativa SEK"/>
          <p:cNvPicPr/>
          <p:nvPr/>
        </p:nvPicPr>
        <p:blipFill>
          <a:blip r:embed="rId1"/>
          <a:stretch/>
        </p:blipFill>
        <p:spPr>
          <a:xfrm>
            <a:off x="4714920" y="1214280"/>
            <a:ext cx="3400560" cy="1357560"/>
          </a:xfrm>
          <a:prstGeom prst="rect">
            <a:avLst/>
          </a:prstGeom>
          <a:ln w="0">
            <a:noFill/>
          </a:ln>
        </p:spPr>
      </p:pic>
      <p:pic>
        <p:nvPicPr>
          <p:cNvPr id="93" name="6 Imagen" descr="TriWorldSchool2Colourlarge.jpg"/>
          <p:cNvPicPr/>
          <p:nvPr/>
        </p:nvPicPr>
        <p:blipFill>
          <a:blip r:embed="rId2"/>
          <a:stretch/>
        </p:blipFill>
        <p:spPr>
          <a:xfrm>
            <a:off x="2071800" y="1285920"/>
            <a:ext cx="11430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Í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ratègies de comunica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ines de su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tres aspec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stratègies de comunicació 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gistre lingüís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xpressivita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ges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stura corp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tacte visual amb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tme i enton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 llegir ni mirar contínuament la panta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Organització de la presenta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7168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ici: captar l’atenció de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ticipar les línies bàsiques de la present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creció del tema i object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tuen sobre el contingut de l’exposi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Introduc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Desenvolupa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herent i adequat a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 de portar de forma lògica a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n de sustentar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) Sobre el contingut del projec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erides a tots els objecti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b) Reflexió sobre el procé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àlisi del treball realitz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nts forts i punts dèbi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utoavalu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ines de su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quisit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formal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de la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sonalització d’estil i diss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ma predeterminat o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rea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er l’alum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ransicions de diaposi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serció d’arxius (imatges, sons, altres documents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quisits funcionals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orç de la finalitat comunic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 es tracta d’una demostració de virtuosisme tècn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uració entre 7 i 12 minu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evisió de la presentació amb el supervis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iurament de la presentació al supervis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P-0709-F6-Cognom1_Cogno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Altres aspec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9:05:56Z</dcterms:created>
  <dc:creator>awaar</dc:creator>
  <dc:description/>
  <dc:language>en-US</dc:language>
  <cp:lastModifiedBy>jros</cp:lastModifiedBy>
  <dcterms:modified xsi:type="dcterms:W3CDTF">2009-04-24T13:11:29Z</dcterms:modified>
  <cp:revision>23</cp:revision>
  <dc:subject/>
  <dc:title>QUÈ HA TENIR?</dc:title>
</cp:coreProperties>
</file>