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97E53-338F-43C3-B682-3F4269321EE1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163B3-E2C0-4CAA-AAAD-AD14606F23E1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9412F-AFB6-42CD-B6D9-BD5EE3F126CB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EC6C4-7B1D-49DD-B6A5-6250AB2AD154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21435-CE5B-451C-8B8C-27D934ED95F0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FCB3D-FB65-4145-9590-CA6D80735D10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DCEAF-A22B-4BAE-A604-EDF87A406A8D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27DFE-74B7-428A-BD02-BCFA85230A45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53014-C99C-48AF-88B9-FF5DEB65BBFE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A0F80-AF88-493A-8352-BD289C16DD5A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7583-7005-422B-A11B-131B51169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4BF1-699C-4E1B-8C4A-7B90E6C3C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2A65-8E08-491B-A076-459C6DD63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EC6E-6D12-45A2-904B-CB80E05D1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7635E-6D10-4B97-BA92-FD341DA90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68F38-3F67-494A-9815-1D9063C66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219F4-D4FA-432B-B1D8-32ABF039E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2ED7B-C9EA-4D8F-9060-3E5ECA2D6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3EFCE-465C-4688-9F4B-26CE98A9A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6F712-5101-45A5-8EAB-30B0613EB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A3019-A9D2-4FFC-A800-18064C88D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31E4-AC65-4C8E-A6E8-EF5535E28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5D958-8918-42A4-A27F-8893CECA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1A205-5CE5-4549-B9C4-0D7CA0331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9AC39-EBCD-41E6-BF43-CDF2E617F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DB268-E808-4157-AECE-ADEFDEEF6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720C1-469F-44A0-91AB-AB306C6C3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6C3F-5A77-405D-A14B-298BFDA6A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5D4F-98E8-48E5-A326-4B79CBE2F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9B9B-355E-44D0-B9B4-B6A7D4421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58EE-F886-4C07-A1E5-5677E3204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C7A2-5E5E-4C29-9B43-93ABB31E8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FD3F-F4D3-49C2-BA02-E39894DE7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7C81-800E-412F-8890-DB5859295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E4272-C150-48F2-A4E3-365BA534C159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Institución Educativa SEK"/>
          <p:cNvPicPr/>
          <p:nvPr/>
        </p:nvPicPr>
        <p:blipFill>
          <a:blip r:embed="rId2"/>
          <a:stretch/>
        </p:blipFill>
        <p:spPr>
          <a:xfrm>
            <a:off x="428760" y="6173640"/>
            <a:ext cx="1714320" cy="684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Arial"/>
              </a:rPr>
              <a:t>Presentació oral del Projecte Perso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33B25-B607-4040-B542-3CB04B13F09F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ca-ES" sz="4400" spc="-1" strike="noStrike">
                <a:solidFill>
                  <a:srgbClr val="e46c0a"/>
                </a:solidFill>
                <a:latin typeface="Calibri"/>
              </a:rPr>
              <a:t>Projecte Person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e46c0a"/>
                </a:solidFill>
                <a:latin typeface="Calibri"/>
              </a:rPr>
              <a:t>Exposició 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5" descr="Institución Educativa SEK"/>
          <p:cNvPicPr/>
          <p:nvPr/>
        </p:nvPicPr>
        <p:blipFill>
          <a:blip r:embed="rId1"/>
          <a:stretch/>
        </p:blipFill>
        <p:spPr>
          <a:xfrm>
            <a:off x="4714920" y="1214280"/>
            <a:ext cx="3400560" cy="1357560"/>
          </a:xfrm>
          <a:prstGeom prst="rect">
            <a:avLst/>
          </a:prstGeom>
          <a:ln w="0">
            <a:noFill/>
          </a:ln>
        </p:spPr>
      </p:pic>
      <p:pic>
        <p:nvPicPr>
          <p:cNvPr id="93" name="6 Imagen" descr="TriWorldSchool2Colourlarge.jpg"/>
          <p:cNvPicPr/>
          <p:nvPr/>
        </p:nvPicPr>
        <p:blipFill>
          <a:blip r:embed="rId2"/>
          <a:stretch/>
        </p:blipFill>
        <p:spPr>
          <a:xfrm>
            <a:off x="2071800" y="1285920"/>
            <a:ext cx="114300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46c0a"/>
                </a:solidFill>
                <a:latin typeface="Calibri"/>
              </a:rPr>
              <a:t>Índe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stratègies de comunicació 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Organització de la presentac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Introducci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Desenvolupa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ines de su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ltres aspec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e46c0a"/>
                </a:solidFill>
                <a:latin typeface="Calibri"/>
              </a:rPr>
              <a:t>Estratègies de comunicació o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Registre lingüís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Form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Expressivitat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gestu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ostura corpo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ntacte visual amb l’auditor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itme i entonaci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Conting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No llegir ni mirar contínuament la pantal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e46c0a"/>
                </a:solidFill>
                <a:latin typeface="Calibri"/>
              </a:rPr>
              <a:t>Organització de la presentaci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Introducc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Desenvolupa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57168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ntroducc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nici: captar l’atenció de l’auditor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nticipar les línies bàsiques de la presentaci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oncreció del tema i objecti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ituen sobre el contingut de l’exposici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e46c0a"/>
                </a:solidFill>
                <a:latin typeface="Calibri"/>
              </a:rPr>
              <a:t>Introducci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46c0a"/>
                </a:solidFill>
                <a:latin typeface="Calibri"/>
              </a:rPr>
              <a:t>Desenvolupa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Coherent i adequat a la presentac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Ha de portar de forma lògica a les conclu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Han de sustentar les conclu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e46c0a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) Sobre el contingut del projec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ferides a tots els objecti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b) Reflexió sobre el procé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nàlisi del treball realitz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unts forts i punts dèbis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utoavaluaci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e46c0a"/>
                </a:solidFill>
                <a:latin typeface="Calibri"/>
              </a:rPr>
              <a:t>Eines de supo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Requisits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formals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de la 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presentac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ersonalització d’estil i disse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ema predeterminat o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creat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per l’alum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ransicions de diapositi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nserció d’arxius (imatges, sons, altres documents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Requisits funcionals de la presentac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forç de la finalitat comunicati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No es tracta d’una demostració de virtuosisme tècn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Duració entre 7 i 12 minut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Revisió de la presentació amb el supervis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Lliurament de la presentació al superviso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PP-0709-F6-Cognom1_Cognom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e46c0a"/>
                </a:solidFill>
                <a:latin typeface="Calibri"/>
              </a:rPr>
              <a:t>Altres aspec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09:05:56Z</dcterms:created>
  <dc:creator>awaar</dc:creator>
  <dc:description/>
  <dc:language>en-US</dc:language>
  <cp:lastModifiedBy>jros</cp:lastModifiedBy>
  <dcterms:modified xsi:type="dcterms:W3CDTF">2009-04-24T13:11:29Z</dcterms:modified>
  <cp:revision>23</cp:revision>
  <dc:subject/>
  <dc:title>QUÈ HA TENIR?</dc:title>
</cp:coreProperties>
</file>