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6AC4-6DD1-4AA1-AD97-364A1F1FC307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27B8-B304-4B65-8B15-B82BC0413EC0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1AD9-E702-40DF-93AB-1E8A0ADEAF14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3338-4D07-4053-ACF3-59B72676AC2D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B145-594A-4E28-A3B4-732DD780DFB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1A8A-A3E0-489C-B8D3-B7D1E249D555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0FC3-4F4E-4753-BD30-0164A6D1B6E5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57FB-1613-495B-A55B-D601A5624B75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387E-FFBB-4775-8620-F097B5568E68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052F-507C-4665-838E-8568DF76A2CF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B7A-E4FC-47F8-A16E-CB5CBC27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48AC-59E9-427F-A4A7-4EBA8E4E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06B-2149-4049-B5C0-FC02145C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037-3D7C-4CBF-A3C3-575065C5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7EC4-BCA2-416D-9955-0BB0DF06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4A33-ABDF-461C-B45B-12B64E8D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5571-E732-4B7D-91B9-B0AE1C55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9D13-A1B6-417C-9862-85E45B6D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4276-235D-439F-9D4B-E657DBBA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7DB9-EC14-4871-8528-99FA8C3D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030E-6E19-4CB7-A605-1DC3FF60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257-4A3D-4C63-A272-DFAFE54D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536E-A4BB-4871-A7BC-A1D765E6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76E7-542D-4996-81EA-D41EAE0C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1EF7-94C2-4F77-8CC6-2948CAB2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E6C5-4C2E-4DD9-AC6F-B54EBDFC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7AE5-350C-4AD8-B3F1-77750E41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6BB-3BE7-4284-B085-242030C8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8A8-D0E1-4219-B312-12D2397B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CD7-370B-42C9-871D-2C5A07E0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BB49-8D6B-4A2A-A031-41932687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1BB6-46FC-4A13-8F1C-B929412B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436-F680-4731-9595-9260B775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426-D6CC-41A0-8DE5-98E86A15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40E6-5C34-440D-994C-ECDF327768B2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nstitución Educativa SEK"/>
          <p:cNvPicPr/>
          <p:nvPr/>
        </p:nvPicPr>
        <p:blipFill>
          <a:blip r:embed="rId2"/>
          <a:stretch/>
        </p:blipFill>
        <p:spPr>
          <a:xfrm>
            <a:off x="428760" y="6173640"/>
            <a:ext cx="1714320" cy="68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Presentació oral del Projecte 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97D5-9A96-41CF-87DE-1E8390E47D3D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Projecte Pers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e46c0a"/>
                </a:solidFill>
                <a:latin typeface="Calibri"/>
              </a:rPr>
              <a:t>Exposi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Institución Educativa SEK"/>
          <p:cNvPicPr/>
          <p:nvPr/>
        </p:nvPicPr>
        <p:blipFill>
          <a:blip r:embed="rId1"/>
          <a:stretch/>
        </p:blipFill>
        <p:spPr>
          <a:xfrm>
            <a:off x="4714920" y="1214280"/>
            <a:ext cx="3400560" cy="1357560"/>
          </a:xfrm>
          <a:prstGeom prst="rect">
            <a:avLst/>
          </a:prstGeom>
          <a:ln w="0">
            <a:noFill/>
          </a:ln>
        </p:spPr>
      </p:pic>
      <p:pic>
        <p:nvPicPr>
          <p:cNvPr id="93" name="6 Imagen" descr="TriWorldSchool2Colourlarge.jpg"/>
          <p:cNvPicPr/>
          <p:nvPr/>
        </p:nvPicPr>
        <p:blipFill>
          <a:blip r:embed="rId2"/>
          <a:stretch/>
        </p:blipFill>
        <p:spPr>
          <a:xfrm>
            <a:off x="2071800" y="1285920"/>
            <a:ext cx="1143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Í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ratègies de comunica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ines de su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tres aspec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stratègies de comunicació 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gistre lingüís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xpressivita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ges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stura corp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tacte visual amb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tme i enton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 llegir ni mirar contínuament la panta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Organització de la presenta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ici: captar l’atenció de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icipar les línies bàsiques de la present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creció del tema i object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tuen sobre el contingut de l’exposi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Introduc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Desenvolupa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herent i adequat a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 de portar de forma lògica a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n de sustentar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) Sobre el contingut del projec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erides a tots els object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b) Reflexió sobre el procé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àlisi del treball realitz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nts forts i punts dèbi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toavalu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ines de su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quisit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formal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de la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sonalització d’estil i diss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ma predeterminat o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rea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er l’alum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ransicions de diaposi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serció d’arxius (imatges, sons, altres document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quisits funcionals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orç de la finalitat comunic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 es tracta d’una demostració de virtuosisme tècn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uració entre 7 i 12 minu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evisió de la presentació amb el supervis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iurament de la presentació al supervis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P-0709-F6-Cognom1_Cogno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Altres aspec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9:05:56Z</dcterms:created>
  <dc:creator>awaar</dc:creator>
  <dc:description/>
  <dc:language>en-US</dc:language>
  <cp:lastModifiedBy>jros</cp:lastModifiedBy>
  <dcterms:modified xsi:type="dcterms:W3CDTF">2009-04-24T13:11:29Z</dcterms:modified>
  <cp:revision>23</cp:revision>
  <dc:subject/>
  <dc:title>QUÈ HA TENIR?</dc:title>
</cp:coreProperties>
</file>